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A0B-D500-487C-BE78-43ECB139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644-C605-4E88-818F-CD307891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86D-FAE1-4205-B19D-D122309A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930-C6F0-40AF-A182-89C4CC3F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08C-45E5-4C28-B6A4-97EBD32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C68-CF1E-4DF1-9A40-E5B3E0F1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AB4-F9EB-45A2-B719-090EB21D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3B7-7D9F-4209-B93A-CDF3328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27D-1399-4BD3-8E27-1EA25F6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C3F-3527-4F27-A36A-11499B61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222-07C4-4AEE-864F-65D59780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A7A-4252-4106-AB8B-2C6729B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A1F-2B8B-45DC-8A3F-3748AE32C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91120" y="43434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icrosoft Sans Serif"/>
              </a:rPr>
              <a:t>A DAY IN LIFE AT APRED NDER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2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Monotype Corsiva"/>
              </a:rPr>
              <a:t>B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Monotype Corsiva"/>
              </a:rPr>
              <a:t>S.2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101600">
            <a:off x="4572000" y="3809880"/>
            <a:ext cx="2133720" cy="17528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 Narrow"/>
              </a:rPr>
              <a:t>PREPS AFTER SUP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We again go back to books and we revise.After that they ring the bell to go to b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19988400">
            <a:off x="4800240" y="411480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Verdana"/>
              </a:rPr>
              <a:t>BED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Comic Sans MS"/>
              </a:rPr>
              <a:t>We first say our prayers and say good night to our friends and then slee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rot="19453200">
            <a:off x="5033880" y="434448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Haettenschweiler"/>
              </a:rPr>
              <a:t>OUR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Haettenschwei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Haettenschweiler"/>
              </a:rPr>
              <a:t>UWANZIGA OL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Verdana"/>
              </a:rPr>
              <a:t>MUHINDA D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MUSONI CA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MUTESI SCO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INGABIRE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SHAK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43800" y="533412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Verdana"/>
              </a:rPr>
              <a:t>EARLY IN THE MORN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66"/>
                </a:solidFill>
                <a:latin typeface="Monotype Corsiva"/>
              </a:rPr>
              <a:t>I say my prayers and I greet my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66"/>
                </a:solidFill>
                <a:latin typeface="Monotype Corsiva"/>
              </a:rPr>
              <a:t>I lay my bed,I brush my teeth, I go to bath,I wipe my body with a towel ,I smear my body with lotion,I comb my hair after I put on my uniform look for my books,then I go for my break  fast  to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8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7c80"/>
                </a:solidFill>
                <a:latin typeface="Arial Narrow"/>
              </a:rPr>
              <a:t>CLASS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 Black"/>
              </a:rPr>
              <a:t>When we get to class we revise our books until  the teacher comes in, when the  teacher comes we greet him/her then start the morning lesson .we learn four lessons and then go to brea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cc00"/>
                </a:solidFill>
                <a:latin typeface="Garamond"/>
              </a:rPr>
              <a:t>BREAK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8f8"/>
                </a:solidFill>
                <a:latin typeface="Century Gothic"/>
              </a:rPr>
              <a:t>During break time we go out for some snacks like juice. and we then go to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cc"/>
                </a:solidFill>
                <a:latin typeface="Palatino Linotype"/>
              </a:rPr>
              <a:t>LUNCH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Microsoft Sans Serif"/>
              </a:rPr>
              <a:t>We go for lunch time at 12.50 p.m and go to the dinning, and we leave the dinning at 1.30pm.and then go to class at 1.50p.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1904760" cy="1504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AFTER LU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fter lunch, I’m still full of meals but it doesn’t stop me from attending to my Computer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9439400">
            <a:off x="6934320" y="4571640"/>
            <a:ext cx="190476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 Narrow"/>
              </a:rPr>
              <a:t>SPORTS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put on my sports wear and I go to p lay different games like volley ball, basket ball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Georgia"/>
              </a:rPr>
              <a:t>PREP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e group with friends and we start to discuss about the days 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981440" cy="1676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99cc"/>
                </a:solidFill>
                <a:latin typeface="Verdana"/>
              </a:rPr>
              <a:t>SUPPER T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Verdana"/>
              </a:rPr>
              <a:t>They ring the bell for supper and we go in the dinning to e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52:22Z</dcterms:created>
  <dc:creator>APRED</dc:creator>
  <dc:description/>
  <dc:language>en-US</dc:language>
  <cp:lastModifiedBy>APRED</cp:lastModifiedBy>
  <dcterms:modified xsi:type="dcterms:W3CDTF">2002-10-24T15:16:33Z</dcterms:modified>
  <cp:revision>16</cp:revision>
  <dc:subject/>
  <dc:title>A DAY IN LIFE AT APRED NDERA.</dc:title>
</cp:coreProperties>
</file>